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74092-C393-4A29-B650-A92FF0832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4BC2F-68D3-4FA5-BD63-2B301C5B5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7D2E6-4847-41DA-B5B1-94684E638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B69CC-FDAF-497B-9A12-3395B9FB3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7CDC3-90A4-412F-8A89-F4900DBBC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BDB70-4C66-4C46-B99D-1A8FDDC27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D7FEB-32AF-46F7-9200-C531E9C25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8EFFD-3B9F-41C2-9BD8-EB80C2056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0A3AD-847B-4469-BB2A-85C27D061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D970D-CD36-4BB4-806F-51616975D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A9E77-E476-4F71-AA29-4F075376B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1B44B-EF7A-4EB1-B5CD-E83379B94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CAAE6B-40DB-4307-B330-8040627189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0T22:04:20Z</dcterms:created>
  <dc:creator>Brion </dc:creator>
  <dc:description/>
  <dc:language>en-US</dc:language>
  <cp:lastModifiedBy/>
  <cp:revision>1</cp:revision>
  <dc:subject/>
  <dc:title/>
</cp:coreProperties>
</file>